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19E7-F087-45A5-8B00-ED3E01E4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4F31-8B39-43BA-AC57-1BB2B06D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C0E2-A0D5-4A86-8772-44AB3F14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1983-A948-4487-8B0E-1E1EC412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05B2-C72A-45C3-BD1A-A84D27E3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A1A4-CE24-4CE1-A2BC-C6FA67D4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413E-6109-49F3-B2A3-EBBACF9C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1F22-6234-46D5-9E58-A6FFB38C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BC4E-7AF3-4B5B-91A6-2D07CD16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E977-ED64-48E3-9AAE-2CF82744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CFFB-D08B-4ACA-8DC4-B3D883EC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E9D4-24CD-4991-96DB-E22C7CD7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CF3E-F404-4663-B354-0A230DBFB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2057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طوبى للرحماءِ فإنهم يُرحَمو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304920"/>
            <a:ext cx="3200400" cy="97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ترحمُ شئتَ خلاصي بقيتَ في سرٍّ ما دام البق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إنني أحلمُ وسطَ حماسي أتوق لوجهِكَ بعد شقاء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304920"/>
            <a:ext cx="2057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طوبى للرحماءِ فإنهم يُرحَمو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05280" y="0"/>
            <a:ext cx="5238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733920" cy="87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لأنكَ تَرحمُ جئتَ تواسي وتسكُنُ فيّ وفيّ تطوف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الا استأصِلِ الشَّوكَ مني وأشعِل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مصابيحَ حُبي فحُبّي ضعيف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04920"/>
            <a:ext cx="2057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طوبى للرحماءِ فإنهم يُرحَمو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2971800" cy="97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لأنكَ ترحَمُ تغفِرُ ذنبي ولا تنسى خيراً ولو كأسَ م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إني أُقرُّ بحُبكَ ربّي وهل غيرَ حُبكَ بابُ السماء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04920"/>
            <a:ext cx="2057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طوبى للرحماءِ فإنهم يُرحَمو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43200" y="-142920"/>
            <a:ext cx="6400800" cy="7000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2590920" cy="105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لأنك ترحمُ تُبريءُ نفسي وتَغسِلُ إثمي بِطولِ أناة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لأنك تعلمُ ضعفي ويأسي تُشَدِّدُ عَزمي فمنكَ الثبات</a:t>
            </a:r>
            <a:r>
              <a:rPr b="0" lang="ar-SA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04920"/>
            <a:ext cx="2057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طوبى للرحماءِ فإنهم يُرحَمو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67000" y="0"/>
            <a:ext cx="5877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0"/>
            <a:ext cx="2895480" cy="132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لأنكَ ترحمُ جئتَ وضيعاً وأنت الإله القوي الأمي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بوَعدِكَ أُدرك قلباً وديعاً فتملأُ قلبي إليكَ حني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304920"/>
            <a:ext cx="2057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طوبى للرحماءِ فإنهم يُرحَمو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7:18:45Z</dcterms:created>
  <dc:creator>SUZANNE.MD</dc:creator>
  <dc:description/>
  <dc:language>en-US</dc:language>
  <cp:lastModifiedBy>HANI SAFI</cp:lastModifiedBy>
  <dcterms:modified xsi:type="dcterms:W3CDTF">2003-03-14T12:26:44Z</dcterms:modified>
  <cp:revision>3</cp:revision>
  <dc:subject/>
  <dc:title>PowerPoint Presentation</dc:title>
</cp:coreProperties>
</file>